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F04-C27A-4984-8AED-0C64FC11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A82-F86C-4CA2-BC2B-0183052A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9F1-81D7-4FF5-9BA3-08357BF5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9A5-EBD8-4DBE-BC4A-6609A2BF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1FA27-6FA9-485D-B0BC-CC5FB07C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E1ED6-8DDF-4013-A929-1A52C7B2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5F283-E780-47BB-AF86-D8F8DFAE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18FA0-3902-4EC1-B4B3-18E5DB30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43364-31D2-49B1-9441-5A42F44C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CFC56-AABE-4EDE-8D8B-57B90B33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74B8C-E976-4B89-A2C3-B1E5D5F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965-BA6D-4725-A525-B0280A2D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9C283-8B0D-4043-BA15-29470DBD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C2E85-7199-41A6-9CFA-428C5EB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C5B0C-7091-467F-B21C-68548B78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138CF-01ED-4FAD-81E6-60EB4C36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2C2CB-750D-4876-B3C0-5773F354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18B9-E513-4ED1-B2D9-B2BA229C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451E-8CF6-4B82-9E0C-25453182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3080-4AA6-422F-8A59-C14A075C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0CAF-7538-45A8-82D5-0062B7DA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6189-B3DE-468B-946D-2518614A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F4C-8CE8-4DC4-B152-278E905B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074C-C0D7-4376-A113-ABBB05AD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59238-4357-4572-83AB-6A8AFCB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1C1F-BFF3-492E-BC06-4AE53ECF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68C7-8116-4190-A3C9-85F0D334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F0B1-FC8D-4508-BA59-59DEA3F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CE7B-0F89-463B-B37B-999F81F7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9351-486C-46C5-87E8-FE051AAD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D1800-7F3B-4C5B-BD58-28B42F08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4CC5D-40D6-44FA-834F-D219C62D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757CA-800F-41CF-8791-E3808EE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DFA-8BD9-4481-985C-6D4D3B58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8B49C-615A-4BAC-ADAF-A4D8E6EB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6FB812-42EC-4C61-91E7-3029D71A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1118C-012E-4C3E-AA59-AAE69270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3C87C-03C9-4C7E-AE90-B5F4CEA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DCC30-DAD4-47E3-8D46-3EBD3D6E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2F555-43BD-402C-BA84-92A28DBD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31002-9C88-4163-BD57-F15C41C2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94D7D-D5A7-4DBE-ABCF-912F769A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FEA55-E059-46E4-88E6-3F5F774F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28BA3-4B00-4B2A-9880-D6162AB1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8B4-9DE9-4F44-92B8-B091954D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7AC61-08D9-41FE-AD62-2B84046D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BD1DB-14D5-475F-B5C3-4AB9AC90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2F902-829E-49AF-B887-CFB31B68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49920-846B-47C9-9EF2-208A4DE9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6211D-5963-4557-AE99-A0155EE7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51104-F42D-4170-9CEE-5FFCFEB7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E6D25-8205-4D86-A341-00E4EDDF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1E62D-5ECF-401A-A6E4-813F144F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234B2-DD9A-40E4-A5A5-D3F6AF0B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FAEFF3-6388-45C5-800C-C9D5FFE9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840-15AE-43DD-A514-D5DD58A0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30505-571D-41A6-9B4E-D275F29F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6E5FD-1C95-427B-803E-081395A1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74EF2-ED23-41CC-99E8-A9C9C0E1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1C36C-8E2D-4C07-AC30-1C3EF97A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1BA9D-BDA1-46C9-B104-4C71B1E7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A903C-ADAF-4697-AE5F-EB13BA0B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B1BA9-22FA-405A-B826-B2381086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3E0E0-0988-4D10-8421-EC24CEA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31C60-CCB4-4326-B2FB-E4FF9693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59BD7-3FCB-4623-9404-56BCF64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5C1-82CD-4142-9FD7-405315A8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84C07-345E-4C24-B048-8D9CD7F2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32071-D6F9-4C89-B230-05612E77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1FBE4-1A99-4CF1-A47E-991C6E31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1C4-9743-470B-AE53-8681506A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8F0-E747-4D4D-9842-B31831AB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90AB-C2BC-44F7-9197-11E9043155B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1377-3973-4F7B-BCCF-1D07F169423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1BEF-B780-48D1-B580-32A7D344649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305F-03BE-4FFF-92D7-A74B0A42B30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EB16-1F09-4593-B9D1-F324401C95C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6956-71A5-44A5-9351-F1EAE01C6D0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3"/>
          <p:cNvSpPr/>
          <p:nvPr/>
        </p:nvSpPr>
        <p:spPr>
          <a:xfrm>
            <a:off x="228600" y="228600"/>
            <a:ext cx="8610480" cy="632448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EDUCA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1295280" y="1523880"/>
            <a:ext cx="6400800" cy="4038840"/>
          </a:xfrm>
          <a:prstGeom prst="ellipse">
            <a:avLst/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2895480" y="18288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STRUC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895480" y="2743200"/>
            <a:ext cx="3124440" cy="1828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3048120" y="33526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ECHNOLOGY INTEG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01:31Z</dcterms:created>
  <dc:creator>Barsales</dc:creator>
  <dc:description/>
  <dc:language>en-US</dc:language>
  <cp:lastModifiedBy>Barsales</cp:lastModifiedBy>
  <dcterms:modified xsi:type="dcterms:W3CDTF">2012-07-10T13:04:10Z</dcterms:modified>
  <cp:revision>1</cp:revision>
  <dc:subject/>
  <dc:title>PowerPoint Presentation</dc:title>
</cp:coreProperties>
</file>